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DF2-858C-47BC-9F37-85A688EE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A82-EB44-4AE7-BE6F-94DACD4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3FD-0456-475C-86D4-CF9FBB1C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46A-DC68-4FCA-9CF9-6651F27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02F-5166-44D8-BB30-CF04B655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C346-9512-4B33-8CD5-6556C31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4FE5-C504-4D0D-9E8E-F64A772B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675F-AAA1-4892-9C61-9F7BFF6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0B4D-7A98-4756-96F5-E814033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C2A6-8EEF-4B61-911C-37DBB2D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355-2742-4700-B20E-72178E53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3C1-D09E-4F0B-A204-6EEED28F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8BAD-7307-4BB3-A231-67A90283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1116-DF9F-4489-89E9-3281103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BFC-3BAD-48DC-8E5D-6B29551A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63C6-C645-4CB8-B880-0C2DB59D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7803-F089-4038-8CBF-509B6E28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838-A9CB-4B62-AFDC-CD999931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039-4D34-4512-BB8E-68AEC66D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7A2-6877-4676-9A7A-B21446A4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0C2-75DE-45A0-B2F2-275A192A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C6E-FF83-4E71-90D2-E28F9E69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079-3CC5-4DE0-A6E9-895EE19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D72-F0A2-40F6-9798-8B2ADA4E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" name="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701351-0C4C-4CDA-BDC5-BC08B500254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85" name="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0E82B3-BA56-4F70-93D0-5FB2E3E55CDB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0"/>
            <a:ext cx="4104000" cy="633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д обучени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765000"/>
            <a:ext cx="3419280" cy="1368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765000"/>
            <a:ext cx="3564000" cy="1513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197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традиционно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1268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роблемно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852640"/>
            <a:ext cx="3529080" cy="2592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2852640"/>
            <a:ext cx="3311280" cy="2664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2924280"/>
            <a:ext cx="34560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1. Проблемное изложение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2. Проблемные вопросы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3. Поисковая деятельность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4. Метод мозговых атак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5. Метод эвристических задач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6. Эвристические беседы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645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854440"/>
            <a:ext cx="37450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словесно-иллюстративный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Наглядно-иллюстративный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моторно-иллюстративный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Словесно-исследовательский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Наглядно-исследовательский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Моторно-исследовательски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665680"/>
            <a:ext cx="79218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 Rounded MT Bold"/>
              </a:rPr>
              <a:t>Все искусство воспитания состоит в том, чтобы ставить молодых людей в условия, способные развить в них зачатки ума и добродетели...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Arial Rounded MT Bold"/>
              </a:rPr>
              <a:t>К. Гельвеци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0"/>
            <a:ext cx="8064720" cy="77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проблемного обучени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9079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Действия учител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9079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Действия учени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00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1. Создание проблемной ситуаци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70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. Осознание противоречи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60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2. Организация размышления над проблемой и её формулировко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2349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. Формулирование проблемы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686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3. Организация разрешения проблемной ситуации, поиск гипотезы, проверк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284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. Выдвижение гипотезы, проверка гипотезы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50864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4. Организация обобщения результа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4581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. Формулировка вывода, применение полученных знани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116000" y="549360"/>
            <a:ext cx="7343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улы сокращённого умножени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5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6699"/>
                </a:solidFill>
                <a:uFillTx/>
                <a:latin typeface="Arial"/>
              </a:rPr>
              <a:t>тема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11280" y="1268280"/>
                <a:ext cx="7993080" cy="36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÷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÷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11280" y="4890960"/>
                <a:ext cx="46083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5280" y="189000"/>
            <a:ext cx="792180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ladimir Script"/>
              </a:rPr>
              <a:t>варианты создания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ladimir Script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ladimir Script"/>
              </a:rPr>
              <a:t>проблемных ситуаций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195" name=""/>
          <p:cNvSpPr/>
          <p:nvPr/>
        </p:nvSpPr>
        <p:spPr>
          <a:xfrm>
            <a:off x="-181080" y="1341360"/>
            <a:ext cx="9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рез противоречие нового материала ранее изученному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84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рез решение задач, связанных с жизнью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349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рез умышленно допущенные ошибки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852640"/>
            <a:ext cx="80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рез использование занимательных задач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57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рез выполнение практических заданий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933720"/>
            <a:ext cx="96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рез решение различные способы решения одной задачи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437000"/>
            <a:ext cx="93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рез небольшие исследовательские задания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2000" y="692280"/>
            <a:ext cx="5761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2(3х+7)-3=17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6х+14-3=17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6х=17-14-3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6х=0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х=0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верка: 2(3  0+7)-3=17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11=17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40360" y="4549680"/>
                <a:ext cx="3603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112840" y="1847880"/>
          <a:ext cx="4976640" cy="1902960"/>
        </p:xfrm>
        <a:graphic>
          <a:graphicData uri="http://schemas.openxmlformats.org/drawingml/2006/table">
            <a:tbl>
              <a:tblPr/>
              <a:tblGrid>
                <a:gridCol w="1218240"/>
                <a:gridCol w="647640"/>
                <a:gridCol w="849600"/>
                <a:gridCol w="648000"/>
                <a:gridCol w="648000"/>
                <a:gridCol w="965160"/>
              </a:tblGrid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2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64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64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547640" y="4762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инейная функция у=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kx+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2997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3068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3068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306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4360" y="0"/>
            <a:ext cx="7775280" cy="620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 окружности 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604800"/>
            <a:ext cx="189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=πd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2502000"/>
          <a:ext cx="403848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2000"/>
                    <a:ext cx="403848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32000" y="1413000"/>
          <a:ext cx="6553080" cy="370512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ар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π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6480">
                      <a:solidFill>
                        <a:srgbClr val="006699"/>
                      </a:solidFill>
                    </a:lnR>
                    <a:lnT w="64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-ая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64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-ая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64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-я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64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реднее арифметическо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6699"/>
                      </a:solidFill>
                    </a:lnL>
                    <a:lnR w="64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64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332000" y="602136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Это я знаю и помню прекрасно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9600" y="52293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π</a:t>
            </a: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5229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5229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00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229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7080" y="5229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5:33:30Z</dcterms:created>
  <dc:creator>User</dc:creator>
  <dc:description/>
  <dc:language>en-US</dc:language>
  <cp:lastModifiedBy>User</cp:lastModifiedBy>
  <dcterms:modified xsi:type="dcterms:W3CDTF">2012-01-30T19:05:44Z</dcterms:modified>
  <cp:revision>2</cp:revision>
  <dc:subject/>
  <dc:title>Слайд 1</dc:title>
</cp:coreProperties>
</file>